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C29-D6D3-440B-9546-D77A7995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90EC-548E-492D-8C76-60068140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87D-ACB5-462A-8068-94A9809E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1165-F77E-4C66-9336-5675F2F8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9C362-DCF9-4F59-8867-BECED051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E18B0-3FE7-4433-82EA-BFD2B710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6B9BB-6639-451A-9E2B-A6A63306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1D8AB-410C-43F9-A558-2BDC541A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240A4-088C-45DA-9D9E-17AADC7B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11FB5-5C42-4B03-857E-BE3F05B9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B58F8-4240-477E-A989-35FBB0E0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83F9-6D95-4E8F-86E7-3E5BFFDF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7A8D8-5DAB-4298-A9F9-697E63A5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974E4-46AD-430F-98EC-8FE275C4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94197-8DC6-4169-8B62-C7FEAABE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13736-D7D0-4CF3-9AC7-5DE16553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A499F-7547-49E3-8577-965321B1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838-8E67-4210-B87E-FD5BEB14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7AB4-932F-42BA-B92F-84ECBE6A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CD5B-0627-412D-9288-B48DAC0E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0FF-E65B-4208-942A-6BC19F6E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567-7FD9-4C2D-8A15-CE1F5298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338-FC17-4C06-9B6D-2128DB07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13C-41E4-415D-98D4-CB9370E4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D145-4FCB-429D-871F-C025C9FD780F}" type="slidenum">
              <a: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1709-C3F1-417E-8426-2CFC590328F9}" type="slidenum">
              <a: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  <a:ea typeface="新細明體"/>
              </a:rPr>
              <a:t>German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Arial"/>
              <a:ea typeface="新細明體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  <a:ea typeface="新細明體"/>
              </a:rPr>
              <a:t>Basic F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Legal Name: Federal Republic of Ger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Population: 82,400,99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apital: Ber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rea: 137,803 squ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m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Located in Central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5880" y="2057400"/>
            <a:ext cx="27622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  <a:ea typeface="新細明體"/>
              </a:rPr>
              <a:t>Terra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In the north- low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In the center- Up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In the South- Bavarian Al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72200" y="762120"/>
            <a:ext cx="2579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  <a:ea typeface="新細明體"/>
              </a:rPr>
              <a:t>Clim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Temperate 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Marine 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lo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W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38680" y="685800"/>
            <a:ext cx="31561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  <a:ea typeface="新細明體"/>
              </a:rPr>
              <a:t>Govern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Federal Re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 of government: Chancellor Angela Merk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724280" y="3352680"/>
            <a:ext cx="27464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4% Protes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4% Roman Catho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7% Musl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8% Unaffiliated/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5:40:48Z</dcterms:created>
  <dc:creator>hedleymyers</dc:creator>
  <dc:description/>
  <dc:language>en-US</dc:language>
  <cp:lastModifiedBy>Hedley</cp:lastModifiedBy>
  <dcterms:modified xsi:type="dcterms:W3CDTF">2009-03-12T02:07:23Z</dcterms:modified>
  <cp:revision>4</cp:revision>
  <dc:subject/>
  <dc:title>Germany</dc:title>
</cp:coreProperties>
</file>